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9.jpeg" ContentType="image/jpeg"/>
  <Override PartName="/ppt/media/image4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F04-9AE0-4809-9A5C-BE8EB7C6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1FC-EE56-46B0-8623-B964228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56C-E44E-415C-A68D-A5ECE30E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1D5-093D-43DA-AB05-8135DD6D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960-9665-4CE2-94AE-2DC7D548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986-0DAC-41A7-85E6-85AA50D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602-629B-4AAC-A4BF-B4D6956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B2EA-855E-4A33-9805-B15B2F6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C576-4451-4E8B-9C65-8909348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7BD-EF16-4364-A5AE-E8A234B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20B7-5F50-41A0-B720-6AE98B8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472-9E00-486F-8A93-0993B47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AB2-454F-4BB4-8C2C-1AAA35E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A1E6-84B1-4D7E-AE4E-5267946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FBBF-9FF4-45DF-9A43-D799A30D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A84-5268-4512-B014-0D993C65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44A5-AC36-4468-8B9A-4502BEE1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751-4F9F-4BEC-A6DB-445DF26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FEF-B5E1-4123-852B-B2D11FFC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F15-238B-4210-A5E8-D19E594B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F48-712C-4C08-8B42-08E4202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210-4D3B-4DD2-89D9-F0566B5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D42-445E-42EB-9D94-A813A7B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E52-CFD1-451D-B114-117DA1A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BFE7-25F1-4668-A082-EE50B5E27C13}" type="slidenum">
              <a:rPr b="0" lang="en-A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AC96-2F70-49EE-BDA1-7C8AF41EB18C}" type="slidenum">
              <a:rPr b="0" lang="en-A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36300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26668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mote discussion regarding selection in an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ghlight EEO iss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ntify that selection is an on-going process with a wide impact on the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ntify the need to develop a selection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vide a framework for selecting staff in an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238880" y="1295280"/>
            <a:ext cx="198144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s in a typical selection proce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828800" y="2514600"/>
            <a:ext cx="327672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ceive ap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209680" y="3352680"/>
            <a:ext cx="3200400" cy="6098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heck against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2895480" y="4191120"/>
            <a:ext cx="304812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sychological te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3581280" y="5029200"/>
            <a:ext cx="266724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5105520" y="6324480"/>
            <a:ext cx="2971800" cy="3812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lection deci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495680" y="5791320"/>
            <a:ext cx="2971800" cy="3808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ference chec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7696080" y="2666880"/>
            <a:ext cx="1219320" cy="3886200"/>
          </a:xfrm>
          <a:prstGeom prst="upDownArrow">
            <a:avLst>
              <a:gd name="adj1" fmla="val 50000"/>
              <a:gd name="adj2" fmla="val 634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N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095880" y="2743200"/>
            <a:ext cx="160020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274320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1- Intro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experiences have you had with interview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 do you prepare for an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an interview the best way to select employe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Is the outcome decided within the first 30 secon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Can you be too relaxed for an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For applicants “it’s not what you say but how you say it” … What do you thinks? What is being assessed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858000" y="1295280"/>
            <a:ext cx="175248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886880" cy="44956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2 - Setting the criter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is a selection criteria? What value has it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 do job descriptions/specifications help define the selection criter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nna knows what she wants. Is Jean right to pull her about this – as a supervisor of the area what right does she have to select who she want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Selection criteria is restrictive says Bob … Is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tru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re there topics that should not be included in selection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572000" y="5791320"/>
            <a:ext cx="3809880" cy="838080"/>
          </a:xfrm>
          <a:prstGeom prst="rightArrow">
            <a:avLst>
              <a:gd name="adj1" fmla="val 50000"/>
              <a:gd name="adj2" fmla="val 113649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lection Criteria exercis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467480" y="914400"/>
            <a:ext cx="167652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7120" y="1999800"/>
            <a:ext cx="7872480" cy="471492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3 – Preparing for the Intervie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 you prepare questions before the interview – why or why not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e there questions you should not ask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type of question is 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 - Requires a yes/no answ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pen - Requires an expansive answ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bing – requires further clarification – more detai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ehavioural – past experience is a good indicator for future performance that seeks previous experie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63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705720" y="914400"/>
            <a:ext cx="2057400" cy="175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1460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3 continu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successful were Bob and Anna in resolving their differences before the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What do you think of Bob’s suggestion to start off the interview with a question about their previous work experience? Is Anna right for criticizing Bob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do you assess experienc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important is personality? Is it fair to expect someone to fit in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0520" y="990720"/>
            <a:ext cx="6363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400800" y="838080"/>
            <a:ext cx="190512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4 – the Interview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n – internal applica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lene –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nessa -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iros - in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gela -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struck you about the interview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the applicant prepared well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it the committee’s responsibility to put the applicant at eas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400800" y="2514600"/>
            <a:ext cx="228600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5 – Coming to a deci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there a process / procedure for deciding who is the best person for the job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issues arise when you are making selection decision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Write down who you think should get the job. Why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would you counsel each of the unsuccessful applicant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ave you any other comments to make about the selection process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E.g. is the committee method better than  one on on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62120" y="91440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315200" y="685800"/>
            <a:ext cx="175248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23:11:02Z</dcterms:created>
  <dc:creator>John McDonald</dc:creator>
  <dc:description/>
  <dc:language>en-US</dc:language>
  <cp:lastModifiedBy>John</cp:lastModifiedBy>
  <dcterms:modified xsi:type="dcterms:W3CDTF">2009-09-14T04:19:42Z</dcterms:modified>
  <cp:revision>8</cp:revision>
  <dc:subject/>
  <dc:title>A FAIR CHANCE</dc:title>
</cp:coreProperties>
</file>